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7E2-A588-44AA-85D5-C40E89C7353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DC3F-F67D-4FBE-AAF1-379DFCAC531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7FA8-1648-409A-961D-38AEB43BA66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45B3-14CA-4FA8-885B-D95A831861B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DCE0-3125-4002-8D9A-857CFC0E9B3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4A6C-8E3E-4E23-9353-7F2ACCAD3CA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C38E-B801-4017-B703-EB995C3052C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1406-BA09-45B1-88B6-F9CE01544EA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6BB9-F0FC-4DD6-9F24-22095CEA469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9F49-5F63-4785-AD62-076462DBFB2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C99-128B-4966-AF4B-5D5876DAC27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3143-DD97-4AD9-98E3-60DE5E7C03C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292E-D7D8-43CD-81AF-2CF0620C6AB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C2B-CE11-44F9-ACC6-C5778764378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45F-546D-4EBA-A080-5EFC2A0C445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A851-3AC6-4FDA-9DB7-C0AC489F959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7B0D-16B6-4BF3-8DF4-76AAC72BAE6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A90D-E045-48E7-B4F1-D456DB101AE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6988-2C3B-475E-9128-0E392B92EAE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EEE5-C3B4-4953-B6F9-81F5307925A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1384-212E-4167-923A-22CF0F20A61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8C2C-56C1-4EE7-99BC-4BB1CEA2AFD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E57A-A657-4D61-A10A-D56785D892B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196B-DB36-4DF8-90ED-ACF3E6A8C14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68B9-A647-483B-96A1-49752804FEE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31A-F6FD-4188-9591-BBB516D85B0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462-4567-4DF7-8F2C-4A566418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F61-AE0A-42EA-932A-4B36C8E1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FE9-BD90-4833-940F-2D38274C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0BC-A11B-4B53-993C-9F2CDD83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AFC-61D5-43C9-9400-B747104C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E5D-43E5-4F83-B614-8FC7E90E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7F6-AF9C-4120-8596-6B826482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3C4-7F7D-4669-AB58-A47D0FC5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5F3-5067-4228-BB8B-9B940BC4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4D5-9A9E-4200-B7F3-6263CDEB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D19-45D7-498B-9CB5-1B851F5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095-6814-4132-903B-1AB7762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52A1-F3E7-4EA5-8F2F-4550E898FB8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2E55-9ECF-46F2-9557-C45FC78A41B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ИРУРГИЈА МАКСИЛАРНОГ СИНУС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0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28-30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атомска и хистолошка разматрања, клинички преглед и дијагностика,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кутни и хронички синузитис,повреде синуса приликом вађења зуб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7456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E271-95DF-43C9-A7C1-00D9237CD52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33440" y="1636560"/>
            <a:ext cx="8373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алп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аорална палпација предњег зида максиларног синуса и интраорална палпација предела тубера врши се у случајевима сумње на запаљенска обољења максиларних си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кусиј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обољења максиларног синуса често су перкуторно осетљиви сви зуби горње вилице на оболелој стр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C3D6-4614-45A4-A47D-1589AAFBD7C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33440" y="1587600"/>
            <a:ext cx="826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СТАЛИ МЕТОДИ ПРЕГЛ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оба дувања на но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ke58"/>
          <p:cNvPicPr/>
          <p:nvPr/>
        </p:nvPicPr>
        <p:blipFill>
          <a:blip r:embed="rId1"/>
          <a:srcRect l="15342" t="0" r="17918" b="-648"/>
          <a:stretch/>
        </p:blipFill>
        <p:spPr>
          <a:xfrm>
            <a:off x="2719440" y="2575080"/>
            <a:ext cx="37432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AF27-8101-470F-9151-4F3E69F50F7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44600" y="1757520"/>
            <a:ext cx="8434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АДИОГРАФСКО ИСПИТИ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омена транспаренције максиларног си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здравих особа слузокожа максиларних синуса је представљ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ртг снимку 1-2 мм периферном зоном благог засенчења које прати конфигурацију коштаних зи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C:\Users\Zoran\Downloads\oralna hirurgija\slike\sinus maxillaris.jpg"/>
          <p:cNvPicPr/>
          <p:nvPr/>
        </p:nvPicPr>
        <p:blipFill>
          <a:blip r:embed="rId1"/>
          <a:stretch/>
        </p:blipFill>
        <p:spPr>
          <a:xfrm>
            <a:off x="4654440" y="4187880"/>
            <a:ext cx="2549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2AE2-4CF3-4FA9-A19A-FCE3FB740C9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C:\Users\Zoran\Downloads\oralna hirurgija\slike\download (38).jpg"/>
          <p:cNvPicPr/>
          <p:nvPr/>
        </p:nvPicPr>
        <p:blipFill>
          <a:blip r:embed="rId1"/>
          <a:stretch/>
        </p:blipFill>
        <p:spPr>
          <a:xfrm>
            <a:off x="733320" y="1960560"/>
            <a:ext cx="3527640" cy="35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Zoran\Downloads\oralna hirurgija\slike\pa.jpg"/>
          <p:cNvPicPr/>
          <p:nvPr/>
        </p:nvPicPr>
        <p:blipFill>
          <a:blip r:embed="rId2"/>
          <a:stretch/>
        </p:blipFill>
        <p:spPr>
          <a:xfrm>
            <a:off x="5234040" y="1935000"/>
            <a:ext cx="2949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4D60-36D0-4623-B895-11E65672D1B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69800" y="1852560"/>
            <a:ext cx="81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исуство се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C:\Users\Zoran\Downloads\oralna hirurgija\slike\download (39).jpg"/>
          <p:cNvPicPr/>
          <p:nvPr/>
        </p:nvPicPr>
        <p:blipFill>
          <a:blip r:embed="rId1"/>
          <a:stretch/>
        </p:blipFill>
        <p:spPr>
          <a:xfrm>
            <a:off x="1843200" y="2803680"/>
            <a:ext cx="53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7A05-C41E-4DC0-8CB6-EEF0F466D72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60360" y="1828800"/>
            <a:ext cx="854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исуство хомогених с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C:\Users\Zoran\Downloads\oralna hirurgija\slike\download (7).jpg"/>
          <p:cNvPicPr/>
          <p:nvPr/>
        </p:nvPicPr>
        <p:blipFill>
          <a:blip r:embed="rId1"/>
          <a:stretch/>
        </p:blipFill>
        <p:spPr>
          <a:xfrm>
            <a:off x="838080" y="2652840"/>
            <a:ext cx="3019680" cy="30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:\Users\Zoran\Downloads\oralna hirurgija\slike\images (18).jpg"/>
          <p:cNvPicPr/>
          <p:nvPr/>
        </p:nvPicPr>
        <p:blipFill>
          <a:blip r:embed="rId2"/>
          <a:stretch/>
        </p:blipFill>
        <p:spPr>
          <a:xfrm>
            <a:off x="4137120" y="2706840"/>
            <a:ext cx="4143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CE76-9872-414D-89A2-D590D99B030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420840" y="1587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омена континуитета коштаних зи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:\Users\Zoran\Downloads\oralna hirurgija\slike\MaxillarySinuses.jpg"/>
          <p:cNvPicPr/>
          <p:nvPr/>
        </p:nvPicPr>
        <p:blipFill>
          <a:blip r:embed="rId1"/>
          <a:stretch/>
        </p:blipFill>
        <p:spPr>
          <a:xfrm>
            <a:off x="673200" y="2209680"/>
            <a:ext cx="3638520" cy="403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http://www.gentili.net/images/200/Ctorbit2.jpg"/>
          <p:cNvPicPr/>
          <p:nvPr/>
        </p:nvPicPr>
        <p:blipFill>
          <a:blip r:embed="rId2"/>
          <a:stretch/>
        </p:blipFill>
        <p:spPr>
          <a:xfrm>
            <a:off x="5064120" y="2646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4A59-A0B9-4035-AB83-14A2971CBD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7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44600" y="1623960"/>
            <a:ext cx="8242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ко 90% случајева недентогене етиолог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КУТНИ ДЕНТОГЕНИ СИНУЗ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ко обољење, које узрокује појаву локалних и општих симптома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Бол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локализован у пределу средње трећине лица, константан, дубок и ирадира ка горњим зубима медијално ка носу и обра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ол се појачава при сваком покрету главе јер накупљени секрет врши притисак на нервне завршетке у слузокожи си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и симптоми су 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непријатан задах , секреција из носа и непријатан укус у ус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DB96-54CE-4A9F-9E30-388E04F2004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600" y="-360"/>
            <a:ext cx="800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85920" y="1792440"/>
            <a:ext cx="844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шти симптоми инфекције су: повишена температура, општа слабост и главобољ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лошки се констатује хомогено и потпун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засенчење синусне шупљи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к је по правилу увек присутан у устима ( авиталан зуб са чијег корена се инфекција преноси у синус или присутна екстракциона рана са карактеристичним изгледом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Лечењ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антибиотици, деконгестија носне слузокоже и обезбеђење дренаж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516A-2B43-467E-9560-D4EA0B9554E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85920" y="1768320"/>
            <a:ext cx="831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РОНИЧНИ ДЕНТОГЕНИ СИНУЗ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дуготрајно запаљење слузокоже синуса које се карактерише пролиферацијом епитела и стварањем полипозних формација, као и метаплазијом епитела од респираторног ка плочастослојевитом ти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о је дентогено узрокован (ороантралне комуникације, страна тел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80CE-4DD2-4212-86C0-D13BFE6019D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" y="16128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лази се у телу горње вилице, облика је тростране пирамиде са базом која чини бочни зид носне дупљ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inus020"/>
          <p:cNvPicPr/>
          <p:nvPr/>
        </p:nvPicPr>
        <p:blipFill>
          <a:blip r:embed="rId1"/>
          <a:srcRect l="14866" t="16293" r="24095" b="266"/>
          <a:stretch/>
        </p:blipFill>
        <p:spPr>
          <a:xfrm>
            <a:off x="2394000" y="2454120"/>
            <a:ext cx="429408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977D-52EE-4A37-B710-F0996F16F6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433440" y="1841400"/>
            <a:ext cx="8192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знаци хроничног синузитиса су веома благи и неспецифични, тако да обољење често бива откривено случајним радиографским испитивањем због других пр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ронични синузитис се карактерише појавом секрета који се слива у назофарингс, секретом и задахом из н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ајвећем броју случајева, узрок је претходно створена ороантрална комуникација која или није дијагностикована или је погрешно леч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4C5B-1242-4EAB-B3A7-DE948EA2B91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372960" y="1647720"/>
            <a:ext cx="8350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хроничног денталног синузитиса подразумева, пре свега, хируршко лечење узрока обољења, док је медикаментно само привремено и изводи се са циљем припреме за дефинитивно хируршко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чко лечење подразумева уклањање промењене слузокоже синуса, као и стварање артефицијалне дренаже синуса применом различитих оперативних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EADA-5112-4822-8795-C148E6B4201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06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вреде синуса приликом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385920" y="1647720"/>
            <a:ext cx="833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Анатомски разло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C:\Users\Zoran\Downloads\oralna hirurgija\slike\imagesrt.jpg"/>
          <p:cNvPicPr/>
          <p:nvPr/>
        </p:nvPicPr>
        <p:blipFill>
          <a:blip r:embed="rId1"/>
          <a:stretch/>
        </p:blipFill>
        <p:spPr>
          <a:xfrm>
            <a:off x="2787480" y="2809800"/>
            <a:ext cx="345456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5085-B9DE-4F23-B961-FA996DA7FCE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16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вреде синуса приликом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469800" y="169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Инфламаторни процеси на врху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C:\Users\Zoran\Downloads\oralna hirurgija\slike\proximity_of_peri-apical_lesions_to_the_maxillary_sinus_floor.jpg"/>
          <p:cNvPicPr/>
          <p:nvPr/>
        </p:nvPicPr>
        <p:blipFill>
          <a:blip r:embed="rId1"/>
          <a:srcRect l="0" t="0" r="920" b="17671"/>
          <a:stretch/>
        </p:blipFill>
        <p:spPr>
          <a:xfrm>
            <a:off x="2085840" y="2525760"/>
            <a:ext cx="461484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2B71-2E23-4111-9EAA-A6754D35F04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767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вреде синуса приликом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433440" y="1697040"/>
            <a:ext cx="82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Јатрогени узро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ke55"/>
          <p:cNvPicPr/>
          <p:nvPr/>
        </p:nvPicPr>
        <p:blipFill>
          <a:blip r:embed="rId1"/>
          <a:stretch/>
        </p:blipFill>
        <p:spPr>
          <a:xfrm>
            <a:off x="312840" y="2575080"/>
            <a:ext cx="3962160" cy="3027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ke57"/>
          <p:cNvPicPr/>
          <p:nvPr/>
        </p:nvPicPr>
        <p:blipFill>
          <a:blip r:embed="rId2"/>
          <a:srcRect l="13814" t="0" r="9872" b="6489"/>
          <a:stretch/>
        </p:blipFill>
        <p:spPr>
          <a:xfrm>
            <a:off x="5016600" y="2382840"/>
            <a:ext cx="349092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1B39-859A-4B5A-B708-E64169A307F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ороантралних комуникац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312840" y="1697040"/>
            <a:ext cx="8434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ани симптом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позитивна проба дувања на н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лаз течности кроз ноздрву приликом испирања уста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некад пацијенти одмах после вађења зуба могу осетити струјање ваздуха између уста и н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дложени симптом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неколико сати после њеног наста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еномен пробушеног цигарет папира или немогућност стварања вакума у устима. Немогућност надувавања образа. Једнострано крварење на н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зни симптом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се јављају због хроничне инфламације синуса, када комуникација добија све особине фист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3E6D-D69F-4FE3-8A76-05A89FC7E69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ороантралних комуникац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409680" y="1684440"/>
            <a:ext cx="8180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НАЦИ СВЕЖЕ ОРОАНТРАЛНЕ КОМУН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ба дувања на нос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ондирањ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englezi2-sl16"/>
          <p:cNvPicPr/>
          <p:nvPr/>
        </p:nvPicPr>
        <p:blipFill>
          <a:blip r:embed="rId1"/>
          <a:stretch/>
        </p:blipFill>
        <p:spPr>
          <a:xfrm>
            <a:off x="2576520" y="2790720"/>
            <a:ext cx="423720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917E-97B0-4D60-A668-4C4523AAAEB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ороантралних комуникац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420840" y="1697040"/>
            <a:ext cx="81691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НАЦИ ОРОАНТРАЛНЕ ФИСТ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месту извађеног зуба рана не зараста у потпу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бом дувања може да се пој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урулентни садр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сондирањем се може дијагностико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муникација алвеоле и си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C:\Users\Zoran\Downloads\oralna hirurgija\slike\download (38).jpg"/>
          <p:cNvPicPr/>
          <p:nvPr/>
        </p:nvPicPr>
        <p:blipFill>
          <a:blip r:embed="rId1"/>
          <a:stretch/>
        </p:blipFill>
        <p:spPr>
          <a:xfrm>
            <a:off x="5762520" y="2995560"/>
            <a:ext cx="2951280" cy="2951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289080" y="5041800"/>
            <a:ext cx="51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СУТНИ СУ И ЗНАЦИ СИНУЗИТ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E568-F94C-4543-B5FB-73FC0768837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760" y="14580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09680" y="1511280"/>
            <a:ext cx="8324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ОНЗЕРВАТИВНА МЕТОДА 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метод којим се обезбеђује стварање и очување коагулума у рани извађеног зуба. ( дубоке и уске једнокорене алвеол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ke60"/>
          <p:cNvPicPr/>
          <p:nvPr/>
        </p:nvPicPr>
        <p:blipFill>
          <a:blip r:embed="rId1"/>
          <a:srcRect l="10662" t="6562" r="19438" b="17214"/>
          <a:stretch/>
        </p:blipFill>
        <p:spPr>
          <a:xfrm>
            <a:off x="2141640" y="3019320"/>
            <a:ext cx="45687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5036-E726-4858-8136-F27BB04727C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469800" y="1757520"/>
            <a:ext cx="813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ИРУРШКА МЕТОДА ЛЕЧЕ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користе локални режњев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ук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латин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мбиновани ( букопалатиналн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о је поступак којим се изводи пластика дефекта и затвара комуникација између усне и синусне шупљ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1AE3-282B-485F-85E6-8DE3860B7CF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434880" y="1914480"/>
            <a:ext cx="841860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епен пнеуматиз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обро пнеуматизован син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дно синуса  од очњака или латералног секутића до ум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редње пнеуматизован син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дно синуса од другог премолара до ум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лабо пнеуматизован син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дно синуса само изнад првог и другог мола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F56D-9EC2-476E-824B-477E10C1325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33440" y="1623960"/>
            <a:ext cx="821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ВЕЖА КОМУНИКАЦИЈА БЕЗ СТРАНОГ ТЕЛА И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а букалним режњем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Wassmun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C:\Users\Zoran\Downloads\oralna hirurgija\slike\preview_html_m1755394b.gif"/>
          <p:cNvPicPr/>
          <p:nvPr/>
        </p:nvPicPr>
        <p:blipFill>
          <a:blip r:embed="rId1"/>
          <a:stretch/>
        </p:blipFill>
        <p:spPr>
          <a:xfrm>
            <a:off x="1122480" y="3416400"/>
            <a:ext cx="3638520" cy="2438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C:\Users\Zoran\Downloads\oralna hirurgija\slike\preview_html_m13072c13.gif"/>
          <p:cNvPicPr/>
          <p:nvPr/>
        </p:nvPicPr>
        <p:blipFill>
          <a:blip r:embed="rId2"/>
          <a:stretch/>
        </p:blipFill>
        <p:spPr>
          <a:xfrm>
            <a:off x="5403960" y="3173400"/>
            <a:ext cx="268128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99AE-0661-46E1-9781-79AD6FD3CA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4" name="Picture 9" descr="C:\Users\Zoran\Downloads\oralna hirurgija\slike\preview_html_56653c8e.gif"/>
          <p:cNvPicPr/>
          <p:nvPr/>
        </p:nvPicPr>
        <p:blipFill>
          <a:blip r:embed="rId1"/>
          <a:stretch/>
        </p:blipFill>
        <p:spPr>
          <a:xfrm>
            <a:off x="449280" y="2227320"/>
            <a:ext cx="3870360" cy="3132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:\Users\Zoran\Downloads\oralna hirurgija\slike\preview_html_75389ddb.gif"/>
          <p:cNvPicPr/>
          <p:nvPr/>
        </p:nvPicPr>
        <p:blipFill>
          <a:blip r:embed="rId2"/>
          <a:stretch/>
        </p:blipFill>
        <p:spPr>
          <a:xfrm>
            <a:off x="4710240" y="2212920"/>
            <a:ext cx="384480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7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3744-7553-4B6C-9EF8-9038C457B1D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Zoran\Downloads\oralna hirurgija\slike\JIndianSocPeriodontol_2013_17_3_354_115666_f8.jpg"/>
          <p:cNvPicPr/>
          <p:nvPr/>
        </p:nvPicPr>
        <p:blipFill>
          <a:blip r:embed="rId1"/>
          <a:stretch/>
        </p:blipFill>
        <p:spPr>
          <a:xfrm>
            <a:off x="528480" y="1373040"/>
            <a:ext cx="3287880" cy="328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Zoran\Downloads\oralna hirurgija\slike\JIndianSocPeriodontol_2013_17_3_354_115666_f9.jpg"/>
          <p:cNvPicPr/>
          <p:nvPr/>
        </p:nvPicPr>
        <p:blipFill>
          <a:blip r:embed="rId2"/>
          <a:stretch/>
        </p:blipFill>
        <p:spPr>
          <a:xfrm>
            <a:off x="4975200" y="1365120"/>
            <a:ext cx="3481560" cy="3481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Zoran\Downloads\oralna hirurgija\slike\JIndianSocPeriodontol_2013_17_3_354_115666_f14.jpg"/>
          <p:cNvPicPr/>
          <p:nvPr/>
        </p:nvPicPr>
        <p:blipFill>
          <a:blip r:embed="rId3"/>
          <a:stretch/>
        </p:blipFill>
        <p:spPr>
          <a:xfrm>
            <a:off x="2894040" y="3386160"/>
            <a:ext cx="31208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7318-904E-4599-B07B-706D451EEE8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457200" y="1455840"/>
            <a:ext cx="819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а букалним транспозиционим реж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xhause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се користи изузетно рет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а палатиналним  транспозиционим реж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shley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C:\Users\Zoran\Downloads\oralna hirurgija\slike\Closure_of_OAC_with_Palatal_Advancement_Flap2-731x900.jpg"/>
          <p:cNvPicPr/>
          <p:nvPr/>
        </p:nvPicPr>
        <p:blipFill>
          <a:blip r:embed="rId1"/>
          <a:srcRect l="9379" t="11330" r="186" b="25419"/>
          <a:stretch/>
        </p:blipFill>
        <p:spPr>
          <a:xfrm>
            <a:off x="2598840" y="3416400"/>
            <a:ext cx="34272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9F45-D87F-47EB-B767-ADC1DED6AB8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69800" y="1442880"/>
            <a:ext cx="8348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ВЕЖА ОРОАНТРАЛНА КОМУНИКАЦИЈА СА СТРАНИМ ТЕЛОМ У СИНУ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 модификованим букалним режњ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Wassmund-Rehrma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e79"/>
          <p:cNvPicPr/>
          <p:nvPr/>
        </p:nvPicPr>
        <p:blipFill>
          <a:blip r:embed="rId1"/>
          <a:srcRect l="15276" t="27204" r="26985" b="23886"/>
          <a:stretch/>
        </p:blipFill>
        <p:spPr>
          <a:xfrm>
            <a:off x="2443320" y="3282840"/>
            <a:ext cx="4492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EEC0-C8FC-4F01-B9E6-1CAD5CAC2EA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444600" y="1647720"/>
            <a:ext cx="817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РОАНТРАЛНА ФИСТУЛА ( ИНФЕКЦИЈА СИНУС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кална операција синуса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aldwell-Luck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ke81"/>
          <p:cNvPicPr/>
          <p:nvPr/>
        </p:nvPicPr>
        <p:blipFill>
          <a:blip r:embed="rId1"/>
          <a:stretch/>
        </p:blipFill>
        <p:spPr>
          <a:xfrm>
            <a:off x="2687760" y="2994120"/>
            <a:ext cx="4025880" cy="30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4AB-8D0D-4CAF-82BB-758111A50B4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488880" y="1728720"/>
            <a:ext cx="8217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ke82"/>
          <p:cNvPicPr/>
          <p:nvPr/>
        </p:nvPicPr>
        <p:blipFill>
          <a:blip r:embed="rId1"/>
          <a:stretch/>
        </p:blipFill>
        <p:spPr>
          <a:xfrm>
            <a:off x="552600" y="2349360"/>
            <a:ext cx="3863880" cy="2899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P1010016b"/>
          <p:cNvPicPr/>
          <p:nvPr/>
        </p:nvPicPr>
        <p:blipFill>
          <a:blip r:embed="rId2"/>
          <a:stretch/>
        </p:blipFill>
        <p:spPr>
          <a:xfrm>
            <a:off x="4957920" y="2225520"/>
            <a:ext cx="386064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90BE-9FAA-464D-879B-F216CF25B9D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ke52"/>
          <p:cNvPicPr/>
          <p:nvPr/>
        </p:nvPicPr>
        <p:blipFill>
          <a:blip r:embed="rId1"/>
          <a:srcRect l="12294" t="14931" r="20372" b="5260"/>
          <a:stretch/>
        </p:blipFill>
        <p:spPr>
          <a:xfrm>
            <a:off x="1900080" y="1865160"/>
            <a:ext cx="5195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9AC1-123A-46A5-AD2E-B5D065A3904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53880" y="1708200"/>
            <a:ext cx="834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ксиларни синус је, као и све остале параназалне шупљине, обложен епителом респираторног типа- цилиндричним са трепљама и пехарастим ћел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под епитела се налази слој растреситог везивног  ткива  са густом мрежом капи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oralna hirurgija\slike\sluznica.png"/>
          <p:cNvPicPr/>
          <p:nvPr/>
        </p:nvPicPr>
        <p:blipFill>
          <a:blip r:embed="rId1"/>
          <a:srcRect l="0" t="14214" r="2145" b="6250"/>
          <a:stretch/>
        </p:blipFill>
        <p:spPr>
          <a:xfrm>
            <a:off x="3057480" y="3414600"/>
            <a:ext cx="2825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DDF1-C267-485C-B723-165009F8821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84120" y="1539720"/>
            <a:ext cx="8398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узимања анамнестичких података, посебну пажњу треба посветити боловима, променама које пацијент запажа у устима или средњој трећини лица, као и знацима поремећеног општег стања здравља (слабост, повишена телесна температура, главобоља.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Бол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најважнији дијагностички симптом обољења максиларних синуса, а његов карактер зависи од природе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 правилу, бол је константан, локализован у дубини и појачава се при сваком покретању главе, као и приликом кашљања и кијања, када се повећава интрасинусни притис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олно подручије је типично и захвата средњу трећину лица, од медијалног угла ока до темпоралног пре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0" y="6424560"/>
            <a:ext cx="369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D833-6513-47D9-AC12-D088AC7C030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20840" y="1623960"/>
            <a:ext cx="8253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радирајући бол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 зубима горње вилице често је први симптом обољења синуса због којег пацијенти затраже помоћ прво стомато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Непријатан задах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оздрвама је, такође, симптом који пацијенти осећају због присуства више или мање обилне гнојне секреције у н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, може се јавити 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непријатан ук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устима, посебно после спавања, због сливања секрета ка назофаринг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E9F1-3341-4A73-BAAA-AB66D462ADC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09680" y="1576440"/>
            <a:ext cx="8277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Екстраоралном инспекцијом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уочавају се промене на лицу као последица пролиферативног раста појединих тумора, посебно малиг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траорална инспекциј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неопходан метод у дијагностици ороантралних комуникација и ф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ула, као и стања околн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оштећење слузокоже, секреција из синуса, присуство остатака зуба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7EB9-F5FE-4D90-A5FB-A07F9FE7EEA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33440" y="1697040"/>
            <a:ext cx="82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траназална инспекција ( риноскопиј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Users\Zoran\Downloads\oralna hirurgija\slike\images (16).jpg"/>
          <p:cNvPicPr/>
          <p:nvPr/>
        </p:nvPicPr>
        <p:blipFill>
          <a:blip r:embed="rId1"/>
          <a:stretch/>
        </p:blipFill>
        <p:spPr>
          <a:xfrm>
            <a:off x="2576520" y="2701800"/>
            <a:ext cx="3927600" cy="29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Каја</dc:creator>
  <dc:description/>
  <dc:language>en-US</dc:language>
  <cp:lastModifiedBy>Korisnik</cp:lastModifiedBy>
  <dcterms:modified xsi:type="dcterms:W3CDTF">2019-09-09T16:03:35Z</dcterms:modified>
  <cp:revision>1616</cp:revision>
  <dc:subject/>
  <dc:title>NAZIV PREDAVANJA</dc:title>
</cp:coreProperties>
</file>